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EEB-2464-48F1-A136-CCF7DC3E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D73-324C-4993-B56B-AA1E3582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C06-A98F-4E47-B056-0C820C2C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BDC-4EA4-407D-BD67-2945C88A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9C2A7-6C88-4988-86A4-286F0AA2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074E2-6095-47D0-BBD2-21B4DADC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3F343-2E64-4D4A-8E83-7B106426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6769A-3DAB-42F2-9E84-D4B0EB4B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0B263-17EB-42B7-9C77-3D9C1ECE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7FB877-07B4-47EB-8B8E-64B4D8A6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345CE-D2D3-4E01-A1F3-25E551F2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32E8-34C8-4F29-8A02-20C70F5F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894E7-A925-4D75-9CAB-EC028D25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F89A5-C8DA-4223-9585-D64609F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9B0BC-F848-4613-8AE1-44B7DDA7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5BFF2-5D95-47A7-BA9A-98C763EC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DE21E-FBDF-48A3-BB30-976C10EC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E94-AE49-48AF-9F4D-9BBC6750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A64-E816-492F-9E31-15BBD9A2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DF6-5E85-40CD-A447-83395CE9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5FAB-CCB6-4C33-BFA3-67027402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941-6081-40AC-BD94-518CC642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63B-2C6A-45E1-88D7-C82FD28B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6A8-DF2B-4C01-B9C8-33A4476B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FADC-DEDE-4FA7-B81F-C9426972DB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A33F-E786-4D12-AC04-2110302577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erspectives-la.com/images/img.brainstorm.gif&amp;imgrefurl=http://perspectives-la.com/brainstorm.htm&amp;h=236&amp;w=200&amp;sz=8&amp;hl=en&amp;start=1&amp;tbnid=qXk79_GYGMN41M:&amp;tbnh=109&amp;tbnw=92&amp;prev=/images%3Fq%3Dbrainstorm%26svnum%3D10%26hl%3Den%26lr%3D%26sa%3D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Response to Interven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RT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ola High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The Three Tier Model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hil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e classified as Learning Disabled until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ree ti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del is followed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a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provided to show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ittle or no response to specific interven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his process can take as long as 18 week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48320" y="2098080"/>
            <a:ext cx="4038480" cy="3497400"/>
            <a:chOff x="4648320" y="2098080"/>
            <a:chExt cx="4038480" cy="3497400"/>
          </a:xfrm>
        </p:grpSpPr>
        <p:sp>
          <p:nvSpPr>
            <p:cNvPr id="147" name="_s32774"/>
            <p:cNvSpPr/>
            <p:nvPr/>
          </p:nvSpPr>
          <p:spPr>
            <a:xfrm flipV="1">
              <a:off x="5994360" y="2097720"/>
              <a:ext cx="1346400" cy="116532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5320"/>
                <a:gd name="textAreaBottom" fmla="*/ 74736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32775"/>
            <p:cNvSpPr/>
            <p:nvPr/>
          </p:nvSpPr>
          <p:spPr>
            <a:xfrm flipV="1">
              <a:off x="5321520" y="3263040"/>
              <a:ext cx="2692080" cy="116676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320 h 1166760"/>
                <a:gd name="textAreaBottom" fmla="*/ 91044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_s32776"/>
            <p:cNvSpPr/>
            <p:nvPr/>
          </p:nvSpPr>
          <p:spPr>
            <a:xfrm flipV="1">
              <a:off x="4648320" y="4429800"/>
              <a:ext cx="4038480" cy="116532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2320 h 1165320"/>
                <a:gd name="textAreaBottom" fmla="*/ 96300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Tier I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Instruction in the General Educatio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iated I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of a variety of methods of present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exible groupings of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havior pl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ra Help Contra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648320" y="2098080"/>
            <a:ext cx="4038480" cy="3497400"/>
            <a:chOff x="4648320" y="2098080"/>
            <a:chExt cx="4038480" cy="3497400"/>
          </a:xfrm>
        </p:grpSpPr>
        <p:sp>
          <p:nvSpPr>
            <p:cNvPr id="153" name="_s34822"/>
            <p:cNvSpPr/>
            <p:nvPr/>
          </p:nvSpPr>
          <p:spPr>
            <a:xfrm flipV="1">
              <a:off x="5994360" y="2097720"/>
              <a:ext cx="1346400" cy="116532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5320"/>
                <a:gd name="textAreaBottom" fmla="*/ 74736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34823"/>
            <p:cNvSpPr/>
            <p:nvPr/>
          </p:nvSpPr>
          <p:spPr>
            <a:xfrm flipV="1">
              <a:off x="5321520" y="3263040"/>
              <a:ext cx="2692080" cy="116676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320 h 1166760"/>
                <a:gd name="textAreaBottom" fmla="*/ 91044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34824"/>
            <p:cNvSpPr/>
            <p:nvPr/>
          </p:nvSpPr>
          <p:spPr>
            <a:xfrm flipV="1">
              <a:off x="4648320" y="4429800"/>
              <a:ext cx="4038480" cy="116532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2320 h 1165320"/>
                <a:gd name="textAreaBottom" fmla="*/ 96300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6400" y="4572000"/>
              <a:ext cx="2286000" cy="990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 rot="20029800">
            <a:off x="2209320" y="4495320"/>
            <a:ext cx="34527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st students should be served here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518148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Tier II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group instru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is on the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within the classro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S Math / 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-tar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648320" y="2098080"/>
            <a:ext cx="4038480" cy="3497400"/>
            <a:chOff x="4648320" y="2098080"/>
            <a:chExt cx="4038480" cy="3497400"/>
          </a:xfrm>
        </p:grpSpPr>
        <p:sp>
          <p:nvSpPr>
            <p:cNvPr id="162" name="_s35846"/>
            <p:cNvSpPr/>
            <p:nvPr/>
          </p:nvSpPr>
          <p:spPr>
            <a:xfrm flipV="1">
              <a:off x="5994360" y="2097720"/>
              <a:ext cx="1346400" cy="116532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5320"/>
                <a:gd name="textAreaBottom" fmla="*/ 74736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35847"/>
            <p:cNvSpPr/>
            <p:nvPr/>
          </p:nvSpPr>
          <p:spPr>
            <a:xfrm flipV="1">
              <a:off x="5321520" y="3263040"/>
              <a:ext cx="2692080" cy="116676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320 h 1166760"/>
                <a:gd name="textAreaBottom" fmla="*/ 91044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35848"/>
            <p:cNvSpPr/>
            <p:nvPr/>
          </p:nvSpPr>
          <p:spPr>
            <a:xfrm flipV="1">
              <a:off x="4648320" y="4429800"/>
              <a:ext cx="4038480" cy="116532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2320 h 1165320"/>
                <a:gd name="textAreaBottom" fmla="*/ 96300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3429000"/>
              <a:ext cx="2286000" cy="990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Tier III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ized 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ve intervention and targeted to specific deficiency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d frequency and duration of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648320" y="2098080"/>
            <a:ext cx="4038480" cy="3497400"/>
            <a:chOff x="4648320" y="2098080"/>
            <a:chExt cx="4038480" cy="3497400"/>
          </a:xfrm>
        </p:grpSpPr>
        <p:sp>
          <p:nvSpPr>
            <p:cNvPr id="169" name="_s36870"/>
            <p:cNvSpPr/>
            <p:nvPr/>
          </p:nvSpPr>
          <p:spPr>
            <a:xfrm flipV="1">
              <a:off x="5994360" y="2097720"/>
              <a:ext cx="1346400" cy="116532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5320"/>
                <a:gd name="textAreaBottom" fmla="*/ 74736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36871"/>
            <p:cNvSpPr/>
            <p:nvPr/>
          </p:nvSpPr>
          <p:spPr>
            <a:xfrm flipV="1">
              <a:off x="5321520" y="3263040"/>
              <a:ext cx="2692080" cy="116676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320 h 1166760"/>
                <a:gd name="textAreaBottom" fmla="*/ 910440 h 11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_s36872"/>
            <p:cNvSpPr/>
            <p:nvPr/>
          </p:nvSpPr>
          <p:spPr>
            <a:xfrm flipV="1">
              <a:off x="4648320" y="4429800"/>
              <a:ext cx="4038480" cy="116532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2320 h 1165320"/>
                <a:gd name="textAreaBottom" fmla="*/ 963000 h 116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2286000"/>
              <a:ext cx="1752480" cy="9144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 note about CSE referrals…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SE referral requires the follo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cumentation of Pre-referral Strategies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tervention, Frequency, Dates, Responsiveness [data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I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tervention, Frequency, Dates, Responsiveness [data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II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tervention, Frequency, Dates, Responsiveness [data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Pre-referral Strate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needs to be done on our end…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of the roles and responsibilities of the 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tter system to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li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er II &amp; tier III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and purchase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gra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help deliver tier II &amp; III interventions (e.g. “Read 180”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e schedul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uctu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facilitate tier II &amp; III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oday’s Objectiv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our collective knowledge, brainstor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pecif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alisti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asur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er 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rate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the support that the students need as a result of the brainstorming from the IST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3581280"/>
            <a:ext cx="19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kground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1977, the population of students labeled “learning disabled” in America has continuously risen almost 200%.  Because of this, the Department of Education was forced to look at the way we were determining how a student became “learning disabled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kground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r the past 30 years, Federal Regulations have used the “discrepancy model” to identify a child as disab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Discrepancy Model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eacher or parent requested a child be tes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ld was given a battery of achievement (academic ability) and cognitive (IQ) te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results were reviewed.  If it was found that a child had a large enough discrepancy between their potential (IQ) and their actual achievement then the child would be labeled learning disabl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Paradigm Shift Begins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ing the ever growing number of special education students, the Department Of Education noted the “insanity” of continuing the same proces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806800">
            <a:off x="2743560" y="419076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anity is continuing to do what yo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ve always done and expec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fferent resul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- Albert Eins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DEA (2004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(Individuals with Disabilities Education Act) was reauthorized in 2004.  Part of the reauthorization was a noted change in the way children would be identified as learning disabl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IQ discrepancy criterion is potentially harmful to students as it results in delaying intervention until the student’s achievement is sufficiently low so that the discrepancy is achieved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ssistance to States for the Education of Children with Disabilities, 2005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es the 2004 law sa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 determining whether a child has a specific learning disability, a local educational agency may use a process that determines if the child responds to a scientific, research based intervention as part of the evaluation procedures”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DEA 200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th the stroke of his pen, George Bush has changed what traditionally has been limited to special education to a major factor in general edu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Re-Birth of the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s have been mandated to create Instructional Support Teams to guide the process of R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urpose of the IST is to develop interventions to assure the child remains in the general education classro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91520" y="2209680"/>
            <a:ext cx="1523880" cy="924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625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 Problem Solving Mode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treng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es the expertise of school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es data that is readily available to school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s buy-in from teachers as stakeholders in th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eakn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defined interventions makes evaluation very diffic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definitive “intervening time perio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repeated practi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5:08:52Z</dcterms:created>
  <dc:creator>wsmith</dc:creator>
  <dc:description/>
  <dc:language>en-US</dc:language>
  <cp:lastModifiedBy>setup</cp:lastModifiedBy>
  <dcterms:modified xsi:type="dcterms:W3CDTF">2011-09-19T17:37:50Z</dcterms:modified>
  <cp:revision>6</cp:revision>
  <dc:subject/>
  <dc:title>Slide 1</dc:title>
</cp:coreProperties>
</file>